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inng04.wav" ContentType="audio/x-wav"/>
  <Override PartName="/ppt/media/peopleooo.wav" ContentType="audio/x-wav"/>
  <Override PartName="/ppt/media/jetflyby2.wav" ContentType="audio/x-wav"/>
  <Override PartName="/ppt/media/zipup202.wav" ContentType="audio/x-wav"/>
  <Override PartName="/ppt/media/lzipup01.wav" ContentType="audio/x-wav"/>
  <Override PartName="/ppt/media/laser.wav" ContentType="audio/x-wav"/>
  <Override PartName="/ppt/media/zapbig0g.wav" ContentType="audio/x-wav"/>
  <Override PartName="/ppt/media/image1.gif" ContentType="image/gif"/>
  <Override PartName="/ppt/media/cool%20man.wav" ContentType="audio/x-wav"/>
  <Override PartName="/ppt/media/carbrake.wav" ContentType="audio/x-wav"/>
  <Override PartName="/ppt/media/zipby102.wav" ContentType="audio/x-wav"/>
  <Override PartName="/ppt/media/chimes.wav" ContentType="audio/x-wav"/>
  <Override PartName="/ppt/media/gunshot.wav" ContentType="audio/x-wav"/>
  <Override PartName="/ppt/media/driveby.wav" ContentType="audio/x-wav"/>
  <Override PartName="/ppt/media/kisbig07.wav" ContentType="audio/x-wav"/>
  <Override PartName="/ppt/media/byipee04.wav" ContentType="audio/x-wav"/>
  <Override PartName="/ppt/media/projctor.wav" ContentType="audio/x-wav"/>
  <Override PartName="/ppt/media/highchime.wav" ContentType="audio/x-wav"/>
  <Override PartName="/ppt/media/camera.wav" ContentType="audio/x-wav"/>
  <Override PartName="/ppt/media/zapvib04.wav" ContentType="audio/x-wav"/>
  <Override PartName="/ppt/media/zipdn102.wav" ContentType="audio/x-wav"/>
  <Override PartName="/ppt/media/glas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5E2-7614-45D5-A1EE-2BDE8963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359-8B19-44C5-9F92-F9C1D8C6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A8B-9C15-479A-BC13-3A55312A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077-CA39-4438-8273-D7862678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799-4D04-4F27-8141-8912E4C8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B6C-5212-4749-9435-4D14104E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63C-93BA-403E-8159-210E2B44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03B3-C29C-4C40-AC34-86B280AD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DE8-A283-4A2F-B0AF-C0D8B909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10C-6D77-4AE6-B838-60A29BC6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8C4-E401-4478-8155-09719811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7ECF-7F47-40AB-896E-C185E35D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2551-4709-4E6D-ACDD-FD0D16791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glass.wav"/><Relationship Id="rId5" Type="http://schemas.openxmlformats.org/officeDocument/2006/relationships/audio" Target="../media/driveby.wav"/><Relationship Id="rId6" Type="http://schemas.openxmlformats.org/officeDocument/2006/relationships/audio" Target="../media/jetflyby2.wav"/><Relationship Id="rId7" Type="http://schemas.openxmlformats.org/officeDocument/2006/relationships/audio" Target="../media/lzipup01.wav"/><Relationship Id="rId8" Type="http://schemas.openxmlformats.org/officeDocument/2006/relationships/audio" Target="../media/lzipup01.wav"/><Relationship Id="rId9" Type="http://schemas.openxmlformats.org/officeDocument/2006/relationships/audio" Target="../media/gunshot.wav"/><Relationship Id="rId10" Type="http://schemas.openxmlformats.org/officeDocument/2006/relationships/audio" Target="../media/laser.wav"/><Relationship Id="rId11" Type="http://schemas.openxmlformats.org/officeDocument/2006/relationships/audio" Target="../media/gunshot.wav"/><Relationship Id="rId12" Type="http://schemas.openxmlformats.org/officeDocument/2006/relationships/audio" Target="../media/laser.wav"/><Relationship Id="rId13" Type="http://schemas.openxmlformats.org/officeDocument/2006/relationships/audio" Target="../media/peopleooo.wav"/><Relationship Id="rId14" Type="http://schemas.openxmlformats.org/officeDocument/2006/relationships/audio" Target="../media/peopleooo.wav"/><Relationship Id="rId15" Type="http://schemas.openxmlformats.org/officeDocument/2006/relationships/audio" Target="../media/driveby.wav"/><Relationship Id="rId16" Type="http://schemas.openxmlformats.org/officeDocument/2006/relationships/audio" Target="../media/zapbig0g.wav"/><Relationship Id="rId17" Type="http://schemas.openxmlformats.org/officeDocument/2006/relationships/audio" Target="../media/laser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audio" Target="../media/driveby.wav"/><Relationship Id="rId21" Type="http://schemas.openxmlformats.org/officeDocument/2006/relationships/audio" Target="../media/boinng04.wav"/><Relationship Id="rId22" Type="http://schemas.openxmlformats.org/officeDocument/2006/relationships/audio" Target="../media/boinng04.wav"/><Relationship Id="rId23" Type="http://schemas.openxmlformats.org/officeDocument/2006/relationships/audio" Target="../media/gunshot.wav"/><Relationship Id="rId24" Type="http://schemas.openxmlformats.org/officeDocument/2006/relationships/audio" Target="../media/laser.wav"/><Relationship Id="rId25" Type="http://schemas.openxmlformats.org/officeDocument/2006/relationships/audio" Target="../media/gunshot.wav"/><Relationship Id="rId26" Type="http://schemas.openxmlformats.org/officeDocument/2006/relationships/audio" Target="../media/laser.wav"/><Relationship Id="rId27" Type="http://schemas.openxmlformats.org/officeDocument/2006/relationships/audio" Target="../media/kisbig07.wav"/><Relationship Id="rId28" Type="http://schemas.openxmlformats.org/officeDocument/2006/relationships/audio" Target="../media/kisbig07.wav"/><Relationship Id="rId29" Type="http://schemas.openxmlformats.org/officeDocument/2006/relationships/audio" Target="../media/byipee04.wav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zapbig0g.wav"/><Relationship Id="rId3" Type="http://schemas.openxmlformats.org/officeDocument/2006/relationships/audio" Target="../media/zipby102.wav"/><Relationship Id="rId4" Type="http://schemas.openxmlformats.org/officeDocument/2006/relationships/audio" Target="../media/zipby102.wav"/><Relationship Id="rId5" Type="http://schemas.openxmlformats.org/officeDocument/2006/relationships/audio" Target="../media/zipby102.wav"/><Relationship Id="rId6" Type="http://schemas.openxmlformats.org/officeDocument/2006/relationships/audio" Target="../media/zapbig0g.wav"/><Relationship Id="rId7" Type="http://schemas.openxmlformats.org/officeDocument/2006/relationships/audio" Target="../media/zapvib04.wav"/><Relationship Id="rId8" Type="http://schemas.openxmlformats.org/officeDocument/2006/relationships/audio" Target="../media/driveby.wav"/><Relationship Id="rId9" Type="http://schemas.openxmlformats.org/officeDocument/2006/relationships/audio" Target="../media/jetflyby2.wav"/><Relationship Id="rId10" Type="http://schemas.openxmlformats.org/officeDocument/2006/relationships/audio" Target="../media/lzipup01.wav"/><Relationship Id="rId11" Type="http://schemas.openxmlformats.org/officeDocument/2006/relationships/audio" Target="../media/lzipup01.wav"/><Relationship Id="rId12" Type="http://schemas.openxmlformats.org/officeDocument/2006/relationships/audio" Target="../media/gunshot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laser.wav"/><Relationship Id="rId16" Type="http://schemas.openxmlformats.org/officeDocument/2006/relationships/audio" Target="../media/peopleooo.wav"/><Relationship Id="rId17" Type="http://schemas.openxmlformats.org/officeDocument/2006/relationships/audio" Target="../media/peopleooo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laser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audio" Target="../media/driveby.wav"/><Relationship Id="rId24" Type="http://schemas.openxmlformats.org/officeDocument/2006/relationships/audio" Target="../media/boinng04.wav"/><Relationship Id="rId25" Type="http://schemas.openxmlformats.org/officeDocument/2006/relationships/audio" Target="../media/kisbig07.wav"/><Relationship Id="rId26" Type="http://schemas.openxmlformats.org/officeDocument/2006/relationships/audio" Target="../media/byipee04.wav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lzipup01.wav"/><Relationship Id="rId3" Type="http://schemas.openxmlformats.org/officeDocument/2006/relationships/audio" Target="../media/lzipup01.wav"/><Relationship Id="rId4" Type="http://schemas.openxmlformats.org/officeDocument/2006/relationships/audio" Target="../media/lzipup01.wav"/><Relationship Id="rId5" Type="http://schemas.openxmlformats.org/officeDocument/2006/relationships/audio" Target="../media/driveby.wav"/><Relationship Id="rId6" Type="http://schemas.openxmlformats.org/officeDocument/2006/relationships/audio" Target="../media/jetflyby2.wav"/><Relationship Id="rId7" Type="http://schemas.openxmlformats.org/officeDocument/2006/relationships/audio" Target="../media/lzipup01.wav"/><Relationship Id="rId8" Type="http://schemas.openxmlformats.org/officeDocument/2006/relationships/audio" Target="../media/lzipup01.wav"/><Relationship Id="rId9" Type="http://schemas.openxmlformats.org/officeDocument/2006/relationships/audio" Target="../media/gunshot.wav"/><Relationship Id="rId10" Type="http://schemas.openxmlformats.org/officeDocument/2006/relationships/audio" Target="../media/laser.wav"/><Relationship Id="rId11" Type="http://schemas.openxmlformats.org/officeDocument/2006/relationships/audio" Target="../media/gunshot.wav"/><Relationship Id="rId12" Type="http://schemas.openxmlformats.org/officeDocument/2006/relationships/audio" Target="../media/laser.wav"/><Relationship Id="rId13" Type="http://schemas.openxmlformats.org/officeDocument/2006/relationships/audio" Target="../media/peopleooo.wav"/><Relationship Id="rId14" Type="http://schemas.openxmlformats.org/officeDocument/2006/relationships/audio" Target="../media/peopleooo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laser.wav"/><Relationship Id="rId18" Type="http://schemas.openxmlformats.org/officeDocument/2006/relationships/audio" Target="../media/zipdn102.wav"/><Relationship Id="rId19" Type="http://schemas.openxmlformats.org/officeDocument/2006/relationships/audio" Target="../media/zipdn102.wav"/><Relationship Id="rId20" Type="http://schemas.openxmlformats.org/officeDocument/2006/relationships/audio" Target="../media/driveby.wav"/><Relationship Id="rId21" Type="http://schemas.openxmlformats.org/officeDocument/2006/relationships/audio" Target="../media/boinng04.wav"/><Relationship Id="rId22" Type="http://schemas.openxmlformats.org/officeDocument/2006/relationships/audio" Target="../media/kisbig07.wav"/><Relationship Id="rId23" Type="http://schemas.openxmlformats.org/officeDocument/2006/relationships/audio" Target="../media/byipee04.wav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ipup202.wav"/><Relationship Id="rId3" Type="http://schemas.openxmlformats.org/officeDocument/2006/relationships/audio" Target="../media/highchime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jetflyby2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zapbig0g.wav"/><Relationship Id="rId13" Type="http://schemas.openxmlformats.org/officeDocument/2006/relationships/audio" Target="../media/zapvib04.wav"/><Relationship Id="rId14" Type="http://schemas.openxmlformats.org/officeDocument/2006/relationships/audio" Target="../media/driveby.wav"/><Relationship Id="rId15" Type="http://schemas.openxmlformats.org/officeDocument/2006/relationships/audio" Target="../media/jetflyby2.wav"/><Relationship Id="rId16" Type="http://schemas.openxmlformats.org/officeDocument/2006/relationships/audio" Target="../media/lzipup01.wav"/><Relationship Id="rId17" Type="http://schemas.openxmlformats.org/officeDocument/2006/relationships/audio" Target="../media/lzipup01.wav"/><Relationship Id="rId18" Type="http://schemas.openxmlformats.org/officeDocument/2006/relationships/audio" Target="../media/gunshot.wav"/><Relationship Id="rId19" Type="http://schemas.openxmlformats.org/officeDocument/2006/relationships/audio" Target="../media/laser.wav"/><Relationship Id="rId20" Type="http://schemas.openxmlformats.org/officeDocument/2006/relationships/audio" Target="../media/gunshot.wav"/><Relationship Id="rId21" Type="http://schemas.openxmlformats.org/officeDocument/2006/relationships/audio" Target="../media/laser.wav"/><Relationship Id="rId22" Type="http://schemas.openxmlformats.org/officeDocument/2006/relationships/audio" Target="../media/peopleooo.wav"/><Relationship Id="rId23" Type="http://schemas.openxmlformats.org/officeDocument/2006/relationships/audio" Target="../media/peopleooo.wav"/><Relationship Id="rId24" Type="http://schemas.openxmlformats.org/officeDocument/2006/relationships/audio" Target="../media/zapbig0g.wav"/><Relationship Id="rId25" Type="http://schemas.openxmlformats.org/officeDocument/2006/relationships/audio" Target="../media/zapbig0g.wav"/><Relationship Id="rId26" Type="http://schemas.openxmlformats.org/officeDocument/2006/relationships/audio" Target="../media/laser.wav"/><Relationship Id="rId27" Type="http://schemas.openxmlformats.org/officeDocument/2006/relationships/audio" Target="../media/zipdn102.wav"/><Relationship Id="rId28" Type="http://schemas.openxmlformats.org/officeDocument/2006/relationships/audio" Target="../media/zipdn102.wav"/><Relationship Id="rId29" Type="http://schemas.openxmlformats.org/officeDocument/2006/relationships/audio" Target="../media/driveby.wav"/><Relationship Id="rId30" Type="http://schemas.openxmlformats.org/officeDocument/2006/relationships/audio" Target="../media/boinng04.wav"/><Relationship Id="rId31" Type="http://schemas.openxmlformats.org/officeDocument/2006/relationships/audio" Target="../media/kisbig07.wav"/><Relationship Id="rId32" Type="http://schemas.openxmlformats.org/officeDocument/2006/relationships/audio" Target="../media/cool%20man.wav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ghchime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jetflyby2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zapbig0g.wav"/><Relationship Id="rId12" Type="http://schemas.openxmlformats.org/officeDocument/2006/relationships/audio" Target="../media/zapvib04.wav"/><Relationship Id="rId13" Type="http://schemas.openxmlformats.org/officeDocument/2006/relationships/audio" Target="../media/driveby.wav"/><Relationship Id="rId14" Type="http://schemas.openxmlformats.org/officeDocument/2006/relationships/audio" Target="../media/jetflyby2.wav"/><Relationship Id="rId15" Type="http://schemas.openxmlformats.org/officeDocument/2006/relationships/audio" Target="../media/lzipup01.wav"/><Relationship Id="rId16" Type="http://schemas.openxmlformats.org/officeDocument/2006/relationships/audio" Target="../media/lzipup01.wav"/><Relationship Id="rId17" Type="http://schemas.openxmlformats.org/officeDocument/2006/relationships/audio" Target="../media/gunshot.wav"/><Relationship Id="rId18" Type="http://schemas.openxmlformats.org/officeDocument/2006/relationships/audio" Target="../media/laser.wav"/><Relationship Id="rId19" Type="http://schemas.openxmlformats.org/officeDocument/2006/relationships/audio" Target="../media/gunshot.wav"/><Relationship Id="rId20" Type="http://schemas.openxmlformats.org/officeDocument/2006/relationships/audio" Target="../media/laser.wav"/><Relationship Id="rId21" Type="http://schemas.openxmlformats.org/officeDocument/2006/relationships/audio" Target="../media/peopleooo.wav"/><Relationship Id="rId22" Type="http://schemas.openxmlformats.org/officeDocument/2006/relationships/audio" Target="../media/peopleooo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laser.wav"/><Relationship Id="rId26" Type="http://schemas.openxmlformats.org/officeDocument/2006/relationships/audio" Target="../media/zipdn102.wav"/><Relationship Id="rId27" Type="http://schemas.openxmlformats.org/officeDocument/2006/relationships/audio" Target="../media/zipdn102.wav"/><Relationship Id="rId28" Type="http://schemas.openxmlformats.org/officeDocument/2006/relationships/audio" Target="../media/driveby.wav"/><Relationship Id="rId29" Type="http://schemas.openxmlformats.org/officeDocument/2006/relationships/audio" Target="../media/boinng04.wav"/><Relationship Id="rId30" Type="http://schemas.openxmlformats.org/officeDocument/2006/relationships/audio" Target="../media/kisbig07.wav"/><Relationship Id="rId31" Type="http://schemas.openxmlformats.org/officeDocument/2006/relationships/audio" Target="../media/cool%20man.wav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Combina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se the linear combination method to solve the system of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52280" y="2057400"/>
                <a:ext cx="319572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495680" y="4800600"/>
                <a:ext cx="12859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533520" y="358128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676520" y="3581280"/>
                <a:ext cx="7286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3505320" y="2286000"/>
            <a:ext cx="1600200" cy="457200"/>
            <a:chOff x="3505320" y="2286000"/>
            <a:chExt cx="1600200" cy="457200"/>
          </a:xfrm>
        </p:grpSpPr>
        <p:sp>
          <p:nvSpPr>
            <p:cNvPr id="49" name=""/>
            <p:cNvSpPr/>
            <p:nvPr/>
          </p:nvSpPr>
          <p:spPr>
            <a:xfrm>
              <a:off x="3581280" y="2286000"/>
              <a:ext cx="152424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2286000"/>
              <a:ext cx="1600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311800" y="1981080"/>
                <a:ext cx="3105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1752480" y="4191120"/>
            <a:ext cx="762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905120" y="4191120"/>
                <a:ext cx="4572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743200" y="4191120"/>
            <a:ext cx="6094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895480" y="4191120"/>
                <a:ext cx="4572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05120" y="4876920"/>
                <a:ext cx="4572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362320" y="4724280"/>
                <a:ext cx="823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715000" y="2057400"/>
                <a:ext cx="4129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934320" y="4419720"/>
                <a:ext cx="503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543800" y="4267080"/>
                <a:ext cx="777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362320" y="3581280"/>
                <a:ext cx="10951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410080" y="2590920"/>
                <a:ext cx="822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620120" y="259092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5105520" y="320040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630840" y="3170160"/>
                <a:ext cx="774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543800" y="3200400"/>
                <a:ext cx="8636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6713640" y="3817800"/>
            <a:ext cx="53316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89600" y="3741840"/>
                <a:ext cx="455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7856640" y="3817800"/>
            <a:ext cx="6094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932600" y="3741840"/>
                <a:ext cx="455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 flipH="1">
            <a:off x="1676160" y="205740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Combina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se the linear combination method to solve the system of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0" y="2057400"/>
                <a:ext cx="32418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49680" y="5486400"/>
                <a:ext cx="17892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419720" y="35053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505320"/>
                <a:ext cx="728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9" name=""/>
          <p:cNvGrpSpPr/>
          <p:nvPr/>
        </p:nvGrpSpPr>
        <p:grpSpPr>
          <a:xfrm>
            <a:off x="3505320" y="1979280"/>
            <a:ext cx="990360" cy="581400"/>
            <a:chOff x="3505320" y="1979280"/>
            <a:chExt cx="990360" cy="581400"/>
          </a:xfrm>
        </p:grpSpPr>
        <p:sp>
          <p:nvSpPr>
            <p:cNvPr id="80" name=""/>
            <p:cNvSpPr/>
            <p:nvPr/>
          </p:nvSpPr>
          <p:spPr>
            <a:xfrm>
              <a:off x="3505320" y="251460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733920" y="197892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7200" y="3809880"/>
                <a:ext cx="27399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5791320" y="4114800"/>
            <a:ext cx="76176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965920" y="4092480"/>
                <a:ext cx="411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781680" y="4114800"/>
            <a:ext cx="60984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956280" y="4092480"/>
                <a:ext cx="411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943600" y="4800600"/>
                <a:ext cx="4572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00800" y="4648320"/>
                <a:ext cx="8240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36640" y="3902040"/>
                <a:ext cx="412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32000" y="5029200"/>
                <a:ext cx="1190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400800" y="3483000"/>
                <a:ext cx="10954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31720" y="443556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14600" y="441972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27160" y="504504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828800" y="5181480"/>
                <a:ext cx="50148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 flipH="1">
            <a:off x="55623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648320" y="2057400"/>
                <a:ext cx="6858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257800" y="2057400"/>
                <a:ext cx="1143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400800" y="205740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3505320" y="2666880"/>
            <a:ext cx="990360" cy="579600"/>
            <a:chOff x="3505320" y="2666880"/>
            <a:chExt cx="990360" cy="579600"/>
          </a:xfrm>
        </p:grpSpPr>
        <p:sp>
          <p:nvSpPr>
            <p:cNvPr id="101" name=""/>
            <p:cNvSpPr/>
            <p:nvPr/>
          </p:nvSpPr>
          <p:spPr>
            <a:xfrm>
              <a:off x="3505320" y="320040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733920" y="2666880"/>
              <a:ext cx="30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2819520"/>
                <a:ext cx="28306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04" name=""/>
          <p:cNvCxnSpPr/>
          <p:nvPr/>
        </p:nvCxnSpPr>
        <p:spPr>
          <a:xfrm rot="5400000">
            <a:off x="-185040" y="3003480"/>
            <a:ext cx="1837440" cy="554760"/>
          </a:xfrm>
          <a:prstGeom prst="curvedConnector5">
            <a:avLst>
              <a:gd name="adj1" fmla="val 6995"/>
              <a:gd name="adj2" fmla="val 79480"/>
              <a:gd name="adj3" fmla="val 699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Combina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se the linear combination method to solve the system of linear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0" y="2057400"/>
                <a:ext cx="32418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576680" y="5486400"/>
                <a:ext cx="17337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09480" y="358128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143000" y="3581280"/>
                <a:ext cx="113832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" name=""/>
          <p:cNvGrpSpPr/>
          <p:nvPr/>
        </p:nvGrpSpPr>
        <p:grpSpPr>
          <a:xfrm>
            <a:off x="3505320" y="1981080"/>
            <a:ext cx="990360" cy="579600"/>
            <a:chOff x="3505320" y="1981080"/>
            <a:chExt cx="990360" cy="579600"/>
          </a:xfrm>
        </p:grpSpPr>
        <p:sp>
          <p:nvSpPr>
            <p:cNvPr id="113" name=""/>
            <p:cNvSpPr/>
            <p:nvPr/>
          </p:nvSpPr>
          <p:spPr>
            <a:xfrm>
              <a:off x="3505320" y="251460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733920" y="1981080"/>
              <a:ext cx="30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923000" y="2133720"/>
                <a:ext cx="31050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523880" y="4213080"/>
            <a:ext cx="762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494000" y="419112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514600" y="4213080"/>
            <a:ext cx="6094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484360" y="419112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654200" y="4853160"/>
                <a:ext cx="5014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33720" y="4746600"/>
                <a:ext cx="823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95880" y="2209680"/>
                <a:ext cx="4129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902280" y="3352680"/>
                <a:ext cx="11448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63600" y="3581280"/>
                <a:ext cx="11876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715000" y="274320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162920" y="274320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4875120" y="33685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499080" y="3549600"/>
                <a:ext cx="455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 flipH="1">
            <a:off x="838080" y="2057400"/>
            <a:ext cx="4572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2895480"/>
                <a:ext cx="45540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95280" y="2895480"/>
                <a:ext cx="4557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38280" y="2895480"/>
                <a:ext cx="4557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143000"/>
            <a:ext cx="7010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4. An pharmacy mailed 300 advertisements, smaller ads requiring $.33 postage and larger ads requiring $.55 postage. If the total cost of postage was 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</a:rPr>
              <a:t>$154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, find the number of advertisements mailed at each ra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49360" y="3182760"/>
                <a:ext cx="241920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91960" y="3792600"/>
                <a:ext cx="10479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60360" y="3792600"/>
                <a:ext cx="1414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577960" y="3792600"/>
                <a:ext cx="1368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092560" y="3182760"/>
                <a:ext cx="146052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3949560" y="3106800"/>
            <a:ext cx="1295280" cy="520560"/>
            <a:chOff x="3949560" y="3106800"/>
            <a:chExt cx="1295280" cy="520560"/>
          </a:xfrm>
        </p:grpSpPr>
        <p:sp>
          <p:nvSpPr>
            <p:cNvPr id="142" name=""/>
            <p:cNvSpPr/>
            <p:nvPr/>
          </p:nvSpPr>
          <p:spPr>
            <a:xfrm>
              <a:off x="3949560" y="3564000"/>
              <a:ext cx="112644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61880" y="3106800"/>
              <a:ext cx="118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.3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388200" y="3182760"/>
                <a:ext cx="136980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683480" y="3182760"/>
                <a:ext cx="146052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092560" y="4478400"/>
            <a:ext cx="3886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738840" y="4500720"/>
                <a:ext cx="10018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6951600" y="5110200"/>
            <a:ext cx="762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921360" y="5087880"/>
                <a:ext cx="822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124840" y="5132520"/>
            <a:ext cx="6094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094600" y="511020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172280" y="5727600"/>
                <a:ext cx="3207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531200" y="5697360"/>
                <a:ext cx="14176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767720" y="4500720"/>
                <a:ext cx="11412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 flipH="1">
            <a:off x="5549400" y="310680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178160" y="3639960"/>
            <a:ext cx="990360" cy="579600"/>
            <a:chOff x="4178160" y="3639960"/>
            <a:chExt cx="990360" cy="579600"/>
          </a:xfrm>
        </p:grpSpPr>
        <p:sp>
          <p:nvSpPr>
            <p:cNvPr id="157" name=""/>
            <p:cNvSpPr/>
            <p:nvPr/>
          </p:nvSpPr>
          <p:spPr>
            <a:xfrm>
              <a:off x="4178160" y="417348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406760" y="3639960"/>
              <a:ext cx="30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97480" y="3792600"/>
                <a:ext cx="3651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98600" y="4707000"/>
                <a:ext cx="35622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511280" y="4782960"/>
                <a:ext cx="10098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425680" y="6078600"/>
                <a:ext cx="11444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30400" y="5392800"/>
                <a:ext cx="1371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654280" y="5392800"/>
                <a:ext cx="13701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366840" y="60181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014560" y="6200640"/>
                <a:ext cx="4096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67" name=""/>
          <p:cNvCxnSpPr/>
          <p:nvPr/>
        </p:nvCxnSpPr>
        <p:spPr>
          <a:xfrm flipV="1" rot="10800000">
            <a:off x="519840" y="3502440"/>
            <a:ext cx="929520" cy="1593000"/>
          </a:xfrm>
          <a:prstGeom prst="curvedConnector5">
            <a:avLst>
              <a:gd name="adj1" fmla="val 124602"/>
              <a:gd name="adj2" fmla="val 50000"/>
              <a:gd name="adj3" fmla="val 1246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4178160" y="569736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50 small 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250 large 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0" y="7621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Line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143000"/>
            <a:ext cx="7086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5. An pharmacy mailed 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</a:rPr>
              <a:t>320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 advertisements, smaller ads requiring $.33 postage and larger ads requiring $.55 postage. If the total cost of postage was 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</a:rPr>
              <a:t>$121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, find the number of advertisements mailed at each ra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09680" y="3182760"/>
                <a:ext cx="241920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2280" y="3792600"/>
                <a:ext cx="10479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120680" y="3792600"/>
                <a:ext cx="1414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460600" y="3814920"/>
                <a:ext cx="1322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572000" y="3182760"/>
                <a:ext cx="146052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3809880" y="3106800"/>
            <a:ext cx="914040" cy="520560"/>
            <a:chOff x="3809880" y="3106800"/>
            <a:chExt cx="914040" cy="520560"/>
          </a:xfrm>
        </p:grpSpPr>
        <p:sp>
          <p:nvSpPr>
            <p:cNvPr id="179" name=""/>
            <p:cNvSpPr/>
            <p:nvPr/>
          </p:nvSpPr>
          <p:spPr>
            <a:xfrm>
              <a:off x="3809880" y="3564000"/>
              <a:ext cx="79524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9080" y="3106800"/>
              <a:ext cx="83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.3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791320" y="3182760"/>
                <a:ext cx="136980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999120" y="3182760"/>
                <a:ext cx="214488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952880" y="4478400"/>
            <a:ext cx="3886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99160" y="4500720"/>
                <a:ext cx="10018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6811920" y="5110200"/>
            <a:ext cx="762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781680" y="5087880"/>
                <a:ext cx="822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7985160" y="5132520"/>
            <a:ext cx="60948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954920" y="5110200"/>
                <a:ext cx="822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032600" y="5727600"/>
                <a:ext cx="3207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527960" y="5697360"/>
                <a:ext cx="1143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467480" y="4478400"/>
                <a:ext cx="15066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 flipH="1">
            <a:off x="5181120" y="310680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809880" y="3639960"/>
            <a:ext cx="762120" cy="579600"/>
            <a:chOff x="3809880" y="3639960"/>
            <a:chExt cx="762120" cy="579600"/>
          </a:xfrm>
        </p:grpSpPr>
        <p:sp>
          <p:nvSpPr>
            <p:cNvPr id="194" name=""/>
            <p:cNvSpPr/>
            <p:nvPr/>
          </p:nvSpPr>
          <p:spPr>
            <a:xfrm>
              <a:off x="3809880" y="4173480"/>
              <a:ext cx="76212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985560" y="3639960"/>
              <a:ext cx="234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952880" y="3792600"/>
                <a:ext cx="3605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58920" y="4707000"/>
                <a:ext cx="35622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508040" y="4782960"/>
                <a:ext cx="7351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209680" y="6078600"/>
                <a:ext cx="14194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127160" y="5392800"/>
                <a:ext cx="1096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651040" y="5392800"/>
                <a:ext cx="1096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27160" y="60181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874880" y="6200640"/>
                <a:ext cx="4096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04" name=""/>
          <p:cNvCxnSpPr/>
          <p:nvPr/>
        </p:nvCxnSpPr>
        <p:spPr>
          <a:xfrm flipV="1" rot="10800000">
            <a:off x="380160" y="3502440"/>
            <a:ext cx="929520" cy="1593000"/>
          </a:xfrm>
          <a:prstGeom prst="curvedConnector5">
            <a:avLst>
              <a:gd name="adj1" fmla="val 124602"/>
              <a:gd name="adj2" fmla="val 50000"/>
              <a:gd name="adj3" fmla="val 1246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4038480" y="569736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250 small 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70 large 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58000" y="7621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kisbig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4-11-29T20:09:26Z</dcterms:modified>
  <cp:revision>125</cp:revision>
  <dc:subject/>
  <dc:title>PowerPoint Presentation</dc:title>
</cp:coreProperties>
</file>